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ED8-D261-434B-BDAA-899D77A3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3EA-A2AA-499E-B6CA-F676A7E8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319-E308-4762-898A-105AD6F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87E-9ADE-4F6D-AB95-0AC84D4F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76F-23FF-4FA4-9271-2416813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DAA-0F5E-4433-9CAF-8C0BB28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16D-6407-400E-8D3E-12E7865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470-4513-48A4-AE80-635BE4F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C1C-27E3-447E-B3AC-083B3744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98-10EC-4451-B790-C80AEA9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0F4-5394-4EEA-BE66-3D7F48A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84F-00CA-497B-AC0A-3E05A04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A9B-9011-4068-857E-7F170107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NI HAU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50083"/>
              <a:gd name="adj2" fmla="val 2497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could you pre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t in Africa without a f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ut sal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tribe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Zulu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22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g of the ju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AWRRR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083"/>
              <a:gd name="adj2" fmla="val 238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the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eychel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089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#1 crop grown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head dresse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men wear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338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nimal can shoot you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s need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orc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49953"/>
              <a:gd name="adj2" fmla="val 218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thest country eas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ma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53"/>
              <a:gd name="adj2" fmla="val 2837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ound how many people di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vation every da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20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th day is celebrated on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83"/>
              <a:gd name="adj2" fmla="val 21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mallest animal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29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hott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y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number one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s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828"/>
              <a:gd name="adj2" fmla="val 188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icks, mud, and rocks are u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make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house or h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066680" y="1447920"/>
            <a:ext cx="7162920" cy="4038480"/>
          </a:xfrm>
          <a:prstGeom prst="wedgeRectCallout">
            <a:avLst>
              <a:gd name="adj1" fmla="val -49953"/>
              <a:gd name="adj2" fmla="val 3335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argest bird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str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ountry are pyrami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located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gy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50208"/>
              <a:gd name="adj2" fmla="val 2270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one type of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an be hunted in Afric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hog, Antelope, De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50208"/>
              <a:gd name="adj2" fmla="val 2542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what of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s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besides african.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wahill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er dog that laug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hy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most popula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ig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JSEAQUIS</cp:lastModifiedBy>
  <cp:lastPrinted>2001-01-31T16:21:13Z</cp:lastPrinted>
  <dcterms:modified xsi:type="dcterms:W3CDTF">2010-11-03T18:25:00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